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1DE6-5587-495E-A69E-57D42AF5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source.org/wiki/Page:Origin_of_Species_1859_facsimile.djvu/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alapagosexpeditions.com/islands/darwin-finche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boutdarwin.com/voyage/voyage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Glyptodon-Armadill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alaeos.org/Hom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pix/analogou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k from website: http://faculty.fmcc.suny.edu/mcdarby/BIO171Book/02-Concepts/02-Taxonomy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answersingenesis.org/natural-selection/natural-selection-vs-evolu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Darwin image: http://en.wikipedia.org/wiki/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r Darwin image: http://en.wikipedia.org/wiki/Portraits_of_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On_the_Origin_of_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898-9CFB-4078-9543-247799E6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5E8-02EC-4518-90AE-7FF8F7DD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5E3-8B1C-42FC-9912-88CE0E85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2C8-9CD7-4D25-9800-F9399327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BD3-DDE4-4FE6-B6A9-FE2F2EAD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3FA-9C26-46EE-84F1-CFA946F8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B40-0043-4A64-AA00-5C30FC6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CB2-85A3-42A1-8245-44F726C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6D0-7CB1-4A2C-B89B-F75F703C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413-328C-447E-9206-1852A9AD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AB5-109C-4EAE-9E15-AC05801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39B-A6E1-49B8-A8A8-0B2D83C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A4B7-CD4A-4C84-AD94-4E191149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wgbh/evolution/educators/teachstuds/svideo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7X33g6eo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for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-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eneration, populations produce more offspring than there are 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do not continue to grow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many other resources are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Individuals within a population compete fo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within all populations v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variations are heri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ome individuals will inherit characteristics that give them a better chance of surviving &amp; reprodu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 the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beneficial traits become more common, generation after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9920" y="1600200"/>
            <a:ext cx="4554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Herbert Spencer to describe 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” is ultimately determined by reproductive success, not just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aracteristics that make them well suited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772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the The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n response to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ntibiotic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290600"/>
            <a:ext cx="8458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s of ancestral species that resembled modern species &amp; had similar geographic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this video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wgbh/evolution/educators/teachstuds/svideo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96000" y="1600200"/>
            <a:ext cx="354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logous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0640" y="1981080"/>
            <a:ext cx="556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agous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360" y="1676520"/>
            <a:ext cx="822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tigi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38560" y="1981080"/>
            <a:ext cx="3410280" cy="4496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54000" y="1981080"/>
            <a:ext cx="2890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” (20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trai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7X33g6eo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ighlights the conflict that Darwin must have felt when developing his theory of natural selection (published in 18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59120" y="609480"/>
            <a:ext cx="342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2:55:13Z</dcterms:created>
  <dc:creator>rubina khan</dc:creator>
  <dc:description/>
  <dc:language>en-US</dc:language>
  <cp:lastModifiedBy>rubina khan</cp:lastModifiedBy>
  <dcterms:modified xsi:type="dcterms:W3CDTF">2014-11-18T14:54:46Z</dcterms:modified>
  <cp:revision>45</cp:revision>
  <dc:subject/>
  <dc:title>Evidence for Evolution</dc:title>
</cp:coreProperties>
</file>